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B75AA-53ED-4846-A3F5-FA08DB699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4ED6B-F3D0-4278-8B20-39F21CE35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1D744-20BB-4EBD-A1A9-6F3DC1F80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D97E8-3020-4FCC-94BB-E62E9316E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5C4A0-6D49-427E-8BC5-D3CDADA1F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53AC1-3629-4BE5-BB68-A1B3B7164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E8FE-9D56-4645-9F06-EAFF03EF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2FA6C-FB28-4E25-9B3D-C86DA622D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C04DF-F516-4FD3-846B-3BB52B2B3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1E00-2B3D-4376-9883-134D6DA7C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ECD0-B057-4F8F-BA8B-D584C3E2C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72EF0-D7FD-4DAB-A9E0-3921DA3D4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fld id="{437D6DCF-420C-4950-93E3-36B0B5AF423E}"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2040" y="700200"/>
            <a:ext cx="8839080" cy="599256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Calibri Light"/>
              </a:rPr>
              <a:t>ANLATIM BOZUKLUKLARI</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160" y="685440"/>
            <a:ext cx="8032680" cy="5992920"/>
          </a:xfrm>
          <a:prstGeom prst="rect">
            <a:avLst/>
          </a:prstGeom>
          <a:noFill/>
          <a:ln w="0">
            <a:noFill/>
          </a:ln>
        </p:spPr>
        <p:txBody>
          <a:bodyPr anchor="t">
            <a:noAutofit/>
          </a:bodyPr>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5. DEYİM ve ATASÖZÜ YANLIŞLIK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Deyimler ve atasözleri kalıplaşmış sözlerdir. Bu yüzden deyim ve atasözlerinde yer alan sözcüklerden herhangi biri değiştirilemez, çıkarılamaz, başka bir yerde kullanılamaz.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Yüzünden dökülen bin parçaydı.</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kazanmak için bütün zorlukları gözden çıkardı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na ayak bağı oluyor , işini çabuk bitirmesini sağlıyordu.</a:t>
            </a:r>
            <a:br>
              <a:rPr sz="1900"/>
            </a:br>
            <a:r>
              <a:rPr b="0" lang="tr-TR" sz="1900" spc="-1" strike="noStrike">
                <a:solidFill>
                  <a:srgbClr val="ff0000"/>
                </a:solidFill>
                <a:latin typeface="Comic Sans MS"/>
              </a:rPr>
              <a:t>Ona yardım et elinden geleni ardına koyma.</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6. MANTIK HATA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tım bozuklarının bir nedeni de sözde bilgi ve mantık yanlışlıklarının bulunması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ütün bildiklerimi ve bilmediklerimi oğluma öğreteceği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eni duymayan arkadaşlar lütfen ellerini kaldırsın.</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aharın en güzel aylarından biridir nisan, mayıs. </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Light"/>
            </a:endParaRPr>
          </a:p>
        </p:txBody>
      </p:sp>
      <p:pic>
        <p:nvPicPr>
          <p:cNvPr id="56" name="Picture 4" descr="IMG_045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YAPIDAN KAYNAKLANAN ANLATIM BOZUKLUKLAR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685440"/>
            <a:ext cx="8247240" cy="5992920"/>
          </a:xfrm>
          <a:prstGeom prst="rect">
            <a:avLst/>
          </a:prstGeom>
          <a:noFill/>
          <a:ln w="0">
            <a:noFill/>
          </a:ln>
        </p:spPr>
        <p:txBody>
          <a:bodyPr anchor="t">
            <a:noAutofit/>
          </a:bodyPr>
          <a:p>
            <a:pPr marL="369720" indent="-369720" algn="ct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AMLAMA YANLIŞLIKLARI</a:t>
            </a:r>
            <a:endParaRPr b="0" lang="en-US" sz="1900" spc="-1" strike="noStrike">
              <a:solidFill>
                <a:srgbClr val="000000"/>
              </a:solidFill>
              <a:latin typeface="Calibri"/>
            </a:endParaRPr>
          </a:p>
          <a:p>
            <a:pPr marL="369720" indent="-36972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d ve sıfat tamlamalarında, tamlayan ya da tamlanan sözcüklerin  yersiz kullanılması; ya da yerinde kullanılmaması yanlışlıklara yol açar. Tamlama yanlışlıklarını şöyle gruplayabiliriz:</a:t>
            </a: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685440"/>
            <a:ext cx="817560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Tamlayan Eki Eksikliği</a:t>
            </a:r>
            <a:r>
              <a:rPr b="0" lang="tr-TR" sz="1900" spc="-1" strike="noStrike">
                <a:solidFill>
                  <a:srgbClr val="000000"/>
                </a:solidFill>
                <a:latin typeface="Calibri"/>
              </a:rPr>
              <a:t>:Belirtili isim tamlamasında kullanılan tamlayan eki, özellikle tamlayan ve tamlanan arasına sözcükler girdiğinde unutulabiliyor. Böylece tamlayanla tamlanan arasındaki bağ kopuyor ve cümlenin anlatımı bozuluyo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Her önüne gelen aklına esen sözcüğü dilimize mal etmesi yanlıştır.</a:t>
            </a:r>
            <a:br>
              <a:rPr sz="1900"/>
            </a:br>
            <a:r>
              <a:rPr b="0" lang="tr-TR" sz="1900" spc="-1" strike="noStrike">
                <a:solidFill>
                  <a:srgbClr val="ff0000"/>
                </a:solidFill>
                <a:latin typeface="Comic Sans MS"/>
              </a:rPr>
              <a:t>Bu duygular geçici ve insanı yanıltıcı olduğu bilinmelidi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Tamlayan Eksikliği: </a:t>
            </a:r>
            <a:r>
              <a:rPr b="0" lang="tr-TR" sz="1900" spc="-1" strike="noStrike">
                <a:solidFill>
                  <a:srgbClr val="000000"/>
                </a:solidFill>
                <a:latin typeface="Calibri"/>
              </a:rPr>
              <a:t>Belirtili ad tamlamalarında tamlayan bir kişi zamiri olduğunda düşebiliyor ve bu çoğu zaman bir anlatım bozukluğuna yol açmıyor. Bunun dışında tamlayanın düştüğü durumlarda genellikle anlatım bozukluğu ortaya çıkıyor.Özellikle sıralı veya bağlı cümlelerde tamlayanın düşmesi, belirsizliğe yol açabiliyo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Öğrenciye bir şey vermeden gelişmesini umma.</a:t>
            </a:r>
            <a:br>
              <a:rPr sz="1900"/>
            </a:br>
            <a:r>
              <a:rPr b="0" lang="tr-TR" sz="1900" spc="-1" strike="noStrike">
                <a:solidFill>
                  <a:srgbClr val="ff0000"/>
                </a:solidFill>
                <a:latin typeface="Comic Sans MS"/>
              </a:rPr>
              <a:t>Arkadaşına yardım ederek mutlu olmasını sağladı.</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c) Ad tamlamasında tamlayan ve tamlanan arasındaki uyumsuzluk:</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r>
              <a:rPr b="0" lang="tr-TR" sz="1900" spc="-1" strike="noStrike">
                <a:solidFill>
                  <a:srgbClr val="000000"/>
                </a:solidFill>
                <a:latin typeface="Calibri"/>
              </a:rPr>
              <a:t>Kişi zamirlerinin kullanıldığı ad tamlamalarında tamlananın ortak olması, tamlanandaki iyelik ekiyle ilgili uyumsuzluklar doğurabili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enim ve senin unutmaman gereken bir gerçek v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 EKLERİN YANLIŞ KULLANIMI</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ğru bir cümlede gereksiz sözcük bulunmayacağı gibi gereksiz ekler de bulunmaz.</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Pahalılığın yegâne sebepleri bizi yöneten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Doğu’daki çıkan bu isyanlar kısa sürede bastırıldı.</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642600"/>
            <a:ext cx="821520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3. ÖZNE YÜKLEM UYUMSUZLUĞ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Özellikle sıralı cümlelerde öznenin her iki yüklemin de öznesi olamadığı durumlarda karşımıza çıkan bir anlatım bozukluğudur. Farklı yüklemler aynı özneye bağlandığında bu durum ortaya çıkar.</a:t>
            </a:r>
            <a:r>
              <a:rPr b="1" lang="tr-TR" sz="1900" spc="-1" strike="noStrike">
                <a:solidFill>
                  <a:srgbClr val="000000"/>
                </a:solidFill>
                <a:latin typeface="Calibri"/>
              </a:rPr>
              <a:t> </a:t>
            </a:r>
            <a:r>
              <a:rPr b="0" lang="tr-TR" sz="1900" spc="-1" strike="noStrike">
                <a:solidFill>
                  <a:srgbClr val="000000"/>
                </a:solidFill>
                <a:latin typeface="Calibri"/>
              </a:rPr>
              <a:t>Cümlede öznenin ifade ettiği şahıslarla yüklemin bildirdiği şahıs arasında bir uyum olmalıdır.</a:t>
            </a: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u soruyu ancak ben ve sen çözebiliri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erkes oyun oynuyor, kitap okumuyord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2 Resim" descr=""/>
          <p:cNvPicPr/>
          <p:nvPr/>
        </p:nvPicPr>
        <p:blipFill>
          <a:blip r:embed="rId1"/>
          <a:stretch/>
        </p:blipFill>
        <p:spPr>
          <a:xfrm>
            <a:off x="0" y="0"/>
            <a:ext cx="8215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75920"/>
            <a:ext cx="825048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nlatım bozukluğunun ortaya çıkmaması için özne ile yüklem arasında  şu uyumlar olmalıdır:</a:t>
            </a:r>
            <a:endParaRPr b="0" lang="en-US" sz="1900" spc="-1" strike="noStrike">
              <a:solidFill>
                <a:srgbClr val="000000"/>
              </a:solidFill>
              <a:latin typeface="Calibri"/>
            </a:endParaRPr>
          </a:p>
          <a:p>
            <a:pPr>
              <a:lnSpc>
                <a:spcPct val="150000"/>
              </a:lnSpc>
              <a:spcBef>
                <a:spcPts val="1001"/>
              </a:spcBef>
              <a:buClr>
                <a:srgbClr val="000000"/>
              </a:buClr>
              <a:buFont typeface="Calibri"/>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opluluk isimleri özne ise yüklem tekil olur;ancak topluluk isimleri çoğul eki alıyorsa yüklem de a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izim takım sahaya çıktı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Bizim takım sahaya çıktı.</a:t>
            </a:r>
            <a:br>
              <a:rPr sz="1900"/>
            </a:br>
            <a:r>
              <a:rPr b="0" lang="tr-TR" sz="1900" spc="-1" strike="noStrike">
                <a:solidFill>
                  <a:srgbClr val="ff0000"/>
                </a:solidFill>
                <a:latin typeface="Comic Sans MS"/>
              </a:rPr>
              <a:t>Takımlar nihayet sahaya çıktılar.</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br>
              <a:rPr sz="1900"/>
            </a:b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
        <p:nvSpPr>
          <p:cNvPr id="65" name="4 Sağ Ok"/>
          <p:cNvSpPr/>
          <p:nvPr/>
        </p:nvSpPr>
        <p:spPr>
          <a:xfrm>
            <a:off x="3492360" y="3429000"/>
            <a:ext cx="1036800" cy="71280"/>
          </a:xfrm>
          <a:prstGeom prst="rightArrow">
            <a:avLst>
              <a:gd name="adj1" fmla="val 50000"/>
              <a:gd name="adj2" fmla="val 50101"/>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160" y="685440"/>
            <a:ext cx="824724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Bitki,hayvan,cansız varlık ve organ isimleri çoğul durumda özne ise yüklem tekil olur.</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Bu sıralar çok sağlam yapılmışlar. </a:t>
            </a:r>
            <a:r>
              <a:rPr b="0" lang="tr-TR" sz="1600" spc="-1" strike="noStrike">
                <a:solidFill>
                  <a:srgbClr val="ff0000"/>
                </a:solidFill>
                <a:latin typeface="Comic Sans MS"/>
              </a:rPr>
              <a:t>	</a:t>
            </a:r>
            <a:r>
              <a:rPr b="0" lang="tr-TR" sz="1600" spc="-1" strike="noStrike">
                <a:solidFill>
                  <a:srgbClr val="ff0000"/>
                </a:solidFill>
                <a:latin typeface="Comic Sans MS"/>
              </a:rPr>
              <a:t>	</a:t>
            </a:r>
            <a:r>
              <a:rPr b="0" lang="tr-TR" sz="1600" spc="-1" strike="noStrike">
                <a:solidFill>
                  <a:srgbClr val="ff0000"/>
                </a:solidFill>
                <a:latin typeface="Comic Sans MS"/>
              </a:rPr>
              <a:t>Bu sıralar çok sağlam yapılmış.</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Not:</a:t>
            </a:r>
            <a:r>
              <a:rPr b="0" lang="tr-TR" sz="1900" spc="-1" strike="noStrike">
                <a:solidFill>
                  <a:srgbClr val="000000"/>
                </a:solidFill>
                <a:latin typeface="Calibri"/>
              </a:rPr>
              <a:t>İnsan dışı varlıklar kişileştirme yolu ile çoğul özne ise yüklem de çoğul ol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tr-TR" sz="1900" spc="-1" strike="noStrike">
                <a:solidFill>
                  <a:srgbClr val="ff0000"/>
                </a:solidFill>
                <a:latin typeface="Comic Sans MS"/>
              </a:rPr>
              <a:t>Martılar bize selam getirdiler.</a:t>
            </a:r>
            <a:br>
              <a:rPr sz="1900"/>
            </a:br>
            <a:r>
              <a:rPr b="0" lang="tr-TR" sz="1900" spc="-1" strike="noStrike">
                <a:solidFill>
                  <a:srgbClr val="ff0000"/>
                </a:solidFill>
                <a:latin typeface="Comic Sans MS"/>
              </a:rPr>
              <a:t>Dağlar beyaz şallarını omuzlarına attılar.</a:t>
            </a:r>
            <a:endParaRPr b="0" lang="en-US" sz="1900" spc="-1" strike="noStrike">
              <a:solidFill>
                <a:srgbClr val="000000"/>
              </a:solidFill>
              <a:latin typeface="Calibri"/>
            </a:endParaRPr>
          </a:p>
        </p:txBody>
      </p:sp>
      <p:sp>
        <p:nvSpPr>
          <p:cNvPr id="67" name="5 Sağ Ok"/>
          <p:cNvSpPr/>
          <p:nvPr/>
        </p:nvSpPr>
        <p:spPr>
          <a:xfrm>
            <a:off x="3564000" y="2205000"/>
            <a:ext cx="1036440" cy="71640"/>
          </a:xfrm>
          <a:prstGeom prst="rightArrow">
            <a:avLst>
              <a:gd name="adj1" fmla="val 50000"/>
              <a:gd name="adj2" fmla="val 49832"/>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357120"/>
            <a:ext cx="8390160" cy="63216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c)Eylem isimleri ,çoğul özne ise yüklem tekil olu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ülüşmeler çok uzun sürdüler.</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 Gülüşmeler çok uzun sürdü. </a:t>
            </a:r>
            <a:br>
              <a:rPr sz="1900"/>
            </a:b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Çoğul sayılar özne ise yüklem tekil olur.</a:t>
            </a:r>
            <a:br>
              <a:rPr sz="1900"/>
            </a:br>
            <a:r>
              <a:rPr b="0" lang="tr-TR" sz="1900" spc="-1" strike="noStrike">
                <a:solidFill>
                  <a:srgbClr val="ff0000"/>
                </a:solidFill>
                <a:latin typeface="Comic Sans MS"/>
              </a:rPr>
              <a:t>Derse on öğrenci girmedile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Derse on öğrenci girmedi.</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Saygı,sitem,küçümseme gibi durumlar için özne tekil de olsa yüklem çoğul yapılabili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hmet Bey bizi hatırlamadılar.</a:t>
            </a:r>
            <a:br>
              <a:rPr sz="1900"/>
            </a:br>
            <a:r>
              <a:rPr b="0" lang="tr-TR" sz="1900" spc="-1" strike="noStrike">
                <a:solidFill>
                  <a:srgbClr val="ff0000"/>
                </a:solidFill>
                <a:latin typeface="Comic Sans MS"/>
              </a:rPr>
              <a:t>Ayşe Hanım odasında yokla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9" name="6 Sağ Ok"/>
          <p:cNvSpPr/>
          <p:nvPr/>
        </p:nvSpPr>
        <p:spPr>
          <a:xfrm>
            <a:off x="3635280" y="1484280"/>
            <a:ext cx="1036800" cy="74520"/>
          </a:xfrm>
          <a:prstGeom prs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70" name="7 Sağ Ok"/>
          <p:cNvSpPr/>
          <p:nvPr/>
        </p:nvSpPr>
        <p:spPr>
          <a:xfrm>
            <a:off x="3564000" y="2997360"/>
            <a:ext cx="1036440" cy="71280"/>
          </a:xfrm>
          <a:prstGeom prst="rightArrow">
            <a:avLst>
              <a:gd name="adj1" fmla="val 50000"/>
              <a:gd name="adj2" fmla="val 50084"/>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2040" y="614520"/>
            <a:ext cx="8521560" cy="59911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Öznede belgisiz zamir ya da belgisiz sıfat varsa yüklem tekil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içbiri sizi görmüyor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Hiçbiri sizi görmüyor. </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Bir cümlede birden fazla özne varsa ve bu öznelerin biri 1.tekil kişi ise yüklem 1. çoğul kişi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li, Ahmet ve ben dün size uğramıştık.</a:t>
            </a:r>
            <a:br>
              <a:rPr sz="1900"/>
            </a:br>
            <a:r>
              <a:rPr b="0" lang="tr-TR" sz="1900" spc="-1" strike="noStrike">
                <a:solidFill>
                  <a:srgbClr val="ff0000"/>
                </a:solidFill>
                <a:latin typeface="Comic Sans MS"/>
              </a:rPr>
              <a:t>Ben ve kardeşim size inanmıyoruz.</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2" name="3 Sağ Ok"/>
          <p:cNvSpPr/>
          <p:nvPr/>
        </p:nvSpPr>
        <p:spPr>
          <a:xfrm>
            <a:off x="3143160" y="1857240"/>
            <a:ext cx="1138320" cy="74880"/>
          </a:xfrm>
          <a:prstGeom prst="rightArrow">
            <a:avLst>
              <a:gd name="adj1" fmla="val 50000"/>
              <a:gd name="adj2" fmla="val 49829"/>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82520" y="452160"/>
            <a:ext cx="8175600" cy="622620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ÖĞE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Özellikle sıralı cümlelerde tümleç (dolaylı tümleç, nesne, zarf tümleci) kullanılması gereken yerde kullanılmamışsa anlatım bozul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it-IT" sz="1900" spc="-1" strike="noStrike">
                <a:solidFill>
                  <a:srgbClr val="ff0000"/>
                </a:solidFill>
                <a:latin typeface="Comic Sans MS"/>
              </a:rPr>
              <a:t>Düşman kenti bombaladı ; ama gireme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Niye en çok şairlere kızarlar, korkar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una okurlarımız karar verir ve uygu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2520" y="452160"/>
            <a:ext cx="8390160" cy="62262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5. EK-FİİL, YARDIMCI FİİL, FİİLİMSİ, FİİL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ıralı isim cümlelerinde ek fiil, fiilimsi, fiil veya yardımcı fiilden birinin kullanılmaması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ömlekleri ben, pantolonları eşim ütüle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Oğuz Atay’ı çok az, Orhan Pamuk’u hiç okumadım.</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iilimsinin gereksiz kullanımı da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Yaklaşık olarak üç ay sonra görüşeceğiz.</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2040" y="685440"/>
            <a:ext cx="823572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6. NOKTALAMA İŞARET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Noktalama işaretleri, cümlede kurucu bir görev üstlenmemekle birlikte cümledeki bağdaşıklığın ve bağlaşıklığın olmasına yardımcı olan birimlerdir. Özellikle virgül ve noktalı virgülün kullanılmadığı kimi durumlarda anlatım bozuklukları ortaya çık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İhtiyar dilenciye seslend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Kösele ayakkabı yapımında eskisi kadar kullanılmıyo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3 Resim" descr=""/>
          <p:cNvPicPr/>
          <p:nvPr/>
        </p:nvPicPr>
        <p:blipFill>
          <a:blip r:embed="rId1"/>
          <a:stretch/>
        </p:blipFill>
        <p:spPr>
          <a:xfrm>
            <a:off x="0" y="0"/>
            <a:ext cx="8143920" cy="65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UYGULAMAL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Ekşi yiyecekleri az , acıyı ise hiç yemezdi.</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u yazıyı değil okumak, anlamak bile imkânsı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endisine bütün sınıf adına teşekkür eder ve tebrik ederim.</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ana yardım ederek, işi kısa sürede bitirmeme neden oldu.</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Şirketteki mevcut ikilik günden güne büyüyo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alibri"/>
              </a:rPr>
              <a:t>ÖDEV</a:t>
            </a:r>
            <a:endParaRPr b="0" lang="en-US" sz="18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Japonya’daki arkadaşıyla on yıl boyunca karşılıklı mektuplaşmış.</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üyüklere gereken saygıyı göstermeli ve incitmemeliyiz.</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erikler çok tatlıdırla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anına gidin, konuşup derdinizi anlatın.</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rzurum’da hava sıcaklığı sıfırın altında eksi otuz dolaylarındayd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üç ve müşkül zamanlarda üstüne düşeni yerine getiri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utlaka bugün çocukluk arkadaşını belki arayaca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rktaki yeşil çimenlere basınca bekçiyi kızdırdı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on dakikada attığı golle takımının galip gelmesine yol açt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ınavı düzenli çalışmasına karşın kazandı.</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2400" y="685440"/>
            <a:ext cx="809280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Dilin en önemli görevi onu kullanan insanlar arasındaki anlaşmayı sağlamaktır. Duygu ve düşünceler söz ya da yazıyla başkalarına aktarılırken dil ve anlatım kurallarına özen gösterilmesi gerekir. Söylenmek istenen her şey; açık, yalın ve anlaşılır biçimde dile getirilmelidir. Eğer konuşmada ve yazmada açıklık, yalınlık ve anlaşılırlık yoksa ortada bir anlatım bozukluğu var demekti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ocuments and Settings\user\Desktop\images.jpg"/>
          <p:cNvPicPr/>
          <p:nvPr/>
        </p:nvPicPr>
        <p:blipFill>
          <a:blip r:embed="rId1"/>
          <a:stretch/>
        </p:blipFill>
        <p:spPr>
          <a:xfrm>
            <a:off x="2214720" y="324000"/>
            <a:ext cx="4357440" cy="613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user\Desktop\231460_2.jpg"/>
          <p:cNvPicPr/>
          <p:nvPr/>
        </p:nvPicPr>
        <p:blipFill>
          <a:blip r:embed="rId1"/>
          <a:stretch/>
        </p:blipFill>
        <p:spPr>
          <a:xfrm>
            <a:off x="2214720" y="426960"/>
            <a:ext cx="4497120" cy="607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560" y="428400"/>
            <a:ext cx="7886520" cy="61434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LAF SALATASI YAPMAK İÇİ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Gerekli malzeme</a:t>
            </a:r>
            <a:r>
              <a:rPr b="0" lang="tr-TR" sz="2000" spc="-1" strike="noStrike">
                <a:solidFill>
                  <a:srgbClr val="000000"/>
                </a:solidFill>
                <a:latin typeface="Calibri"/>
              </a:rPr>
              <a:t>: 750 gr pırıltılı sözcük (Anlamı herkesçe bilinmeyen ve yabancı kökenli olanlar tercih edilmelidi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bağ söz dizimi (Uzun, karışık, dolaşık olanlar ya da yine yabancı kökenliler tercih edilmelid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İçi için: </a:t>
            </a:r>
            <a:r>
              <a:rPr b="0" lang="tr-TR" sz="2000" spc="-1" strike="noStrike">
                <a:solidFill>
                  <a:srgbClr val="000000"/>
                </a:solidFill>
                <a:latin typeface="Calibri"/>
              </a:rPr>
              <a:t>İncir çekirdeğinden az küçük anlam.</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Hazırlanışı: </a:t>
            </a:r>
            <a:r>
              <a:rPr b="0" lang="tr-TR" sz="2000" spc="-1" strike="noStrike">
                <a:solidFill>
                  <a:srgbClr val="000000"/>
                </a:solidFill>
                <a:latin typeface="Calibri"/>
              </a:rPr>
              <a:t>Anlamın tamamı bir havanda dövülür. Söz dizimi parmak kalınlığında parçalara bölünüp sözcüklerle karıştırılır. Anlam bu karışıma iyice yedirilir. Kalanı ayrı bir kapta dinlenmeye bırakılır. Üstüne bol kibir gezdirilir. Asık surat sosuyla sıcağı sıcağına servis yapılır. Bu salata, getirildiği sofranın daima baş yemeği olur ve onu hazırlayıp getireni daha servis tamamlanmadan iki beden büyütür. Yiyen kişide baş dönmesiyle başlayan bir kırıklığa yol açarsa da bu etki genellikle uzun sürmez. Kaşıntı ve kızarıklık hâllerinde doktora haber verilmelidir…</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eyza HEPÇİLİNGİRLER </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dim: “Ah!”</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C:\Documents and Settings\user\Desktop\286349_2.jpg"/>
          <p:cNvPicPr/>
          <p:nvPr/>
        </p:nvPicPr>
        <p:blipFill>
          <a:blip r:embed="rId1"/>
          <a:stretch/>
        </p:blipFill>
        <p:spPr>
          <a:xfrm>
            <a:off x="1866960" y="357120"/>
            <a:ext cx="4629240" cy="60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2040" y="547200"/>
            <a:ext cx="8839080" cy="613116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TIM BOZUKLUKLARI</a:t>
            </a:r>
            <a:endParaRPr b="0" lang="en-US" sz="14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omic Sans MS"/>
              </a:rPr>
              <a:t> </a:t>
            </a:r>
            <a:r>
              <a:rPr b="0" lang="tr-TR" sz="1300" spc="-1" strike="noStrike">
                <a:solidFill>
                  <a:srgbClr val="000000"/>
                </a:solidFill>
                <a:latin typeface="Comic Sans MS"/>
              </a:rPr>
              <a:t>	</a:t>
            </a:r>
            <a:r>
              <a:rPr b="1" lang="tr-TR" sz="1300" spc="-1" strike="noStrike">
                <a:solidFill>
                  <a:srgbClr val="000000"/>
                </a:solidFill>
                <a:latin typeface="Comic Sans MS"/>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400" spc="-1" strike="noStrike">
                <a:solidFill>
                  <a:srgbClr val="000000"/>
                </a:solidFill>
                <a:latin typeface="Calibri"/>
              </a:rPr>
              <a:t>ANLAMDAN KAYNAKLANAN</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1" lang="tr-TR" sz="1400" spc="-1" strike="noStrike">
                <a:solidFill>
                  <a:srgbClr val="000000"/>
                </a:solidFill>
                <a:latin typeface="Calibri"/>
              </a:rPr>
              <a:t>YAPIDAN KAYNAKLANAN</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Gereksiz sözcük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1. Tamlama yanlışları</a:t>
            </a:r>
            <a:r>
              <a:rPr b="0" lang="tr-TR" sz="1400" spc="-1" strike="noStrike">
                <a:solidFill>
                  <a:srgbClr val="000000"/>
                </a:solidFill>
                <a:latin typeface="Calibri"/>
              </a:rPr>
              <a:t>	</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yerde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2. Eklerin yanlış kullanımı</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anlamda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3. Özne-yüklem uyumsuzluğu</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mca çelişen sözcükler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4. Öğe Eksiklikler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Deyim ve atasözü yanlışlık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5. Ek-fiil, yardımcı fiil, fiil eksikliğ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Mantık hata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6. Noktalama işaretlerinin kullanımı</a:t>
            </a:r>
            <a:endParaRPr b="0" lang="en-US" sz="1400" spc="-1" strike="noStrike">
              <a:solidFill>
                <a:srgbClr val="000000"/>
              </a:solidFill>
              <a:latin typeface="Calibri"/>
            </a:endParaRPr>
          </a:p>
        </p:txBody>
      </p:sp>
      <p:cxnSp>
        <p:nvCxnSpPr>
          <p:cNvPr id="46" name="5 Düz Ok Bağlayıcısı"/>
          <p:cNvCxnSpPr/>
          <p:nvPr/>
        </p:nvCxnSpPr>
        <p:spPr>
          <a:xfrm flipH="1">
            <a:off x="2050200" y="1123920"/>
            <a:ext cx="2234520" cy="1154880"/>
          </a:xfrm>
          <a:prstGeom prst="straightConnector1">
            <a:avLst/>
          </a:prstGeom>
          <a:ln w="6480">
            <a:solidFill>
              <a:srgbClr val="5b9bd5"/>
            </a:solidFill>
            <a:miter/>
            <a:tailEnd len="med" type="arrow" w="med"/>
          </a:ln>
        </p:spPr>
      </p:cxnSp>
      <p:cxnSp>
        <p:nvCxnSpPr>
          <p:cNvPr id="47" name="7 Düz Ok Bağlayıcısı"/>
          <p:cNvCxnSpPr/>
          <p:nvPr/>
        </p:nvCxnSpPr>
        <p:spPr>
          <a:xfrm>
            <a:off x="4284360" y="1123920"/>
            <a:ext cx="1872360" cy="1154880"/>
          </a:xfrm>
          <a:prstGeom prst="straightConnector1">
            <a:avLst/>
          </a:prstGeom>
          <a:ln w="6480">
            <a:solidFill>
              <a:srgbClr val="5b9bd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ANLAMDAN KAYNAKLANAN ANLATIM BOZUKLUKLARI</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520" y="452160"/>
            <a:ext cx="8104320" cy="6226200"/>
          </a:xfrm>
          <a:prstGeom prst="rect">
            <a:avLst/>
          </a:prstGeom>
          <a:noFill/>
          <a:ln w="0">
            <a:noFill/>
          </a:ln>
        </p:spPr>
        <p:txBody>
          <a:bodyPr anchor="t">
            <a:noAutofit/>
          </a:bodyPr>
          <a:p>
            <a:pPr marL="415800" indent="-415800"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1. GEREKSİZ SÖZCÜK KULLANIMI</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Bir cümlede bulunan gereksiz sözcükler, o cümlenin gücünü azaltır.Buna karşılık içinde gereksiz sözcük  bulunmayan cümleler, daha etkili ve inandırıcıdır.</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Cümlede gereksiz kullanılan sözcükler, cümleden çıkarıldıklarında cümlede herhangi bir anlam değişmesi ya da daralması olmaz, cümlenin kuruluşu da bozulmaz.</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Üç saatlik yolu yaya yürüyerek gittik.</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Onlar da beş yıldır karşılıklı mektuplaşıyorlar.</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Kulağıma eğilerek alçak sesle bir şeyler fısıldadı.</a:t>
            </a:r>
            <a:endParaRPr b="0" lang="en-US" sz="1600" spc="-1" strike="noStrike">
              <a:solidFill>
                <a:srgbClr val="000000"/>
              </a:solidFill>
              <a:latin typeface="Calibri"/>
            </a:endParaRPr>
          </a:p>
          <a:p>
            <a:pPr marL="415800" indent="-415800">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415800" indent="-415800">
              <a:lnSpc>
                <a:spcPct val="90000"/>
              </a:lnSpc>
              <a:spcBef>
                <a:spcPts val="1001"/>
              </a:spcBef>
              <a:buClr>
                <a:srgbClr val="ff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2. SÖZCÜĞÜN YANLIŞ YERDE KULLANILMASI</a:t>
            </a: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Bazen sözcük doğrudur ancak cümlede bulunduğu yer doğru değildir. Bu durum da anlatım bozukluğuna yol açar.</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Alınan bu karar, savaşta askerin daha çok ölmesine yol açtı.</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Cesetler çok denizde kaldığından çürümüş.</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Kravatsız müdürün odasına girmeyin.</a:t>
            </a:r>
            <a:endParaRPr b="0" lang="en-US" sz="20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160" y="685440"/>
            <a:ext cx="803268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3. SÖZCÜĞÜN YANLIŞ ANLAMDA KULLANILMAS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Bir kelimenin anlamına uygun olmayan bir şekilde veya benzer şekilde yazılan bir kelimenin yerine kullanılması anlatım bozukluğuna yol açar. Doğru bir anlatım için, amaca, anlatılmak istenene en uygun sözcükleri seçmek gerekir. Bunun için de sözcüklerin anlamlarını iyi bilmek şarttı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Şimdi erkeklere </a:t>
            </a:r>
            <a:r>
              <a:rPr b="0" lang="tr-TR" sz="1900" spc="-1" strike="noStrike" u="sng">
                <a:solidFill>
                  <a:srgbClr val="ff0000"/>
                </a:solidFill>
                <a:uFillTx/>
                <a:latin typeface="Comic Sans MS"/>
              </a:rPr>
              <a:t>özgü</a:t>
            </a:r>
            <a:r>
              <a:rPr b="0" lang="tr-TR" sz="1900" spc="-1" strike="noStrike">
                <a:solidFill>
                  <a:srgbClr val="ff0000"/>
                </a:solidFill>
                <a:latin typeface="Comic Sans MS"/>
              </a:rPr>
              <a:t> yeni“Head&amp;Shoulders” ile %100 dayanıklı saç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Tarım ilaçlarının su ve toprak kirlenmesinde önemli bir </a:t>
            </a:r>
            <a:r>
              <a:rPr b="0" lang="tr-TR" sz="1900" spc="-1" strike="noStrike" u="sng">
                <a:solidFill>
                  <a:srgbClr val="ff0000"/>
                </a:solidFill>
                <a:uFillTx/>
                <a:latin typeface="Comic Sans MS"/>
              </a:rPr>
              <a:t>katkısı</a:t>
            </a:r>
            <a:r>
              <a:rPr b="0" lang="tr-TR" sz="1900" spc="-1" strike="noStrike">
                <a:solidFill>
                  <a:srgbClr val="ff0000"/>
                </a:solidFill>
                <a:latin typeface="Comic Sans MS"/>
              </a:rPr>
              <a:t> var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Vatandaşlarımız arasında din ,dil,ırk </a:t>
            </a:r>
            <a:r>
              <a:rPr b="0" lang="tr-TR" sz="1900" spc="-1" strike="noStrike" u="sng">
                <a:solidFill>
                  <a:srgbClr val="ff0000"/>
                </a:solidFill>
                <a:uFillTx/>
                <a:latin typeface="Comic Sans MS"/>
              </a:rPr>
              <a:t>ayrıntısı</a:t>
            </a:r>
            <a:r>
              <a:rPr b="0" lang="tr-TR" sz="1900" spc="-1" strike="noStrike">
                <a:solidFill>
                  <a:srgbClr val="ff0000"/>
                </a:solidFill>
                <a:latin typeface="Comic Sans MS"/>
              </a:rPr>
              <a:t> yapılamaz.</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 ANLAMCA ÇELİŞEN SÖZCÜKLE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mca birbirinin zıttı veya çelişiği olan kelimelerin aynı cümlede yer alması anlatım bozukluğuna sebep olur. Anlamca çelişen ifadeler, cümlede uyumu bozar; anlamda ikiliğe yol açarak belirsizlik doğur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Derse girmediğimi hiç kuşkusuz babam öğrenmiş o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Aşağı yukarı bundan tam otuz beş yıl öncey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bitireli hemen hemen tam on yıl oldu.</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6:54:44Z</dcterms:created>
  <dc:creator>pc</dc:creator>
  <dc:description/>
  <dc:language>en-US</dc:language>
  <cp:lastModifiedBy>pc</cp:lastModifiedBy>
  <dcterms:modified xsi:type="dcterms:W3CDTF">2018-04-23T19:22:37Z</dcterms:modified>
  <cp:revision>68</cp:revision>
  <dc:subject/>
  <dc:title>Slayt 1</dc:title>
</cp:coreProperties>
</file>